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88E-95FB-4225-88FB-726D279A0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9AF-FC88-42F1-A936-5A3D0D32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U – American Geophysical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Search – brief explanation of OSDDs, keyword searching, pag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– xml results, show exampl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IP – base OSDD allows programmatic construction of search. Search results reference further OSD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up atom.xml and point out link elements illustrating ESIP stand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48C-E297-4954-8E96-3C1BDF53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24A-991B-4486-B87E-C5B69966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88F-266E-4709-9847-4072A95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8C0-E4BF-488E-8B77-844A1266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C33A-DFFA-40E4-BB51-F45BAE6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DAC2-F258-4492-ADEE-5E11DFEB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643A-01A8-4E1C-8F3E-52D9DCEC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2C5-82CD-4C72-91FC-FFE8BA4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5BB-21D8-4487-9025-AB32E7B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506C-E831-42C3-A500-26A4C97A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85C-9734-4080-AE0A-DC2049F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EC1-8773-48A1-8F4F-4D1FB8E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8E6-DA60-4954-9588-C97B69C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5966-5A1D-405F-A2AC-A457561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3A2-A905-44B1-BE87-C7BCBB7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A4EE-62AE-4204-AC53-9B82DACA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2880-95D2-45F9-8B40-908FB25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AC09-EAE2-41C5-B1F8-178E5DEE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E83-7C2B-4AC7-99D3-B4ECF16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DD34-70C5-4995-8BA0-AEBA17F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D747-F0D4-46F4-8007-E07F12B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9AA3-ADB0-47D8-9E42-46539FB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8FF-BD2D-4FF7-B1AA-CCADF2B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2B13-39E5-4C4E-869E-79F75B95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92A2-6661-4B30-813A-E1E0027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5BBD-E455-4E95-BFDE-3024A75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4660-4A72-4553-9D49-F0BD2EF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FAA6-6AFE-493B-9BB4-CB8121D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1720-C845-4C9D-9458-F6AAE5C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C442-E06F-4967-BCAA-2F5803F2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55E6-A94E-4F7B-92E0-E5A9FAC9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39AB-1A78-4E39-B9E5-0BA73FA0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C224-6D24-4E5B-BFCF-7017B0D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812-A3BE-4F47-8B1E-4359375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7FA2-DD47-44B5-8F19-F09392B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ADD7-AAE8-4F88-B795-70B6456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CF96-FC11-4793-89AD-8AC4A6EB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B12C-27FF-4CCD-9CC9-5E2D3DC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56F9-01A1-42D9-9162-474593F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863E-8543-4D71-830E-3173FAC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486F-0C7C-44B6-A45D-4C704097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5A72-16A8-4472-ABBA-66880FDD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F6205-1535-41B3-8E3D-F6F3A79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0D77-9A64-4680-8F72-A2067EA5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689-0ED0-411A-BA11-61EAC71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D1F4-93BB-4E65-9B89-40DAF0FE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3744-116F-4D3C-87E2-156E0FD3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2531-1F2D-4E58-A164-C9A2223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67B8-A347-4E34-89A4-C0F474D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AA0D-2FFE-4618-9DBD-35BF4A4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7B3E-279C-44C5-8660-4B41CBA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16B64-69D4-4409-BA6C-6564FB0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753C-C8F7-4E78-95D5-BE801B7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A885-55D7-48AB-A99B-5BA7889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E6F4-C5CD-4F11-99E1-7F1ACFA2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2AB-DF76-4503-A4BC-0A2985B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98E3-F487-46E8-A765-10E60BEA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F7D7-B657-403B-9905-E2C7843C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AFBC-C5F3-4EC7-9E79-2967800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1C1A-610C-4BE1-B956-4E6316F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9902C-3CB0-42F4-B645-F58C9D2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87D22-A52C-411F-95C6-3F6A5AA4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A631-DC16-46D3-8629-B13169F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1AD1-592E-426E-8683-540230D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EC30-5606-4C17-B2A0-EF774D8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8729-F589-4B3F-B368-D757E8F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A82-36CF-456F-9314-DC86DD9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C022-98DC-47F5-B437-C2E47DA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F9C6-806F-4318-8830-FB258283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93EA-5686-4A44-8810-0C451C3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8C07-6DFC-4513-8407-714940E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9A57D-ABF9-446A-B8D5-67E6876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9209-91CA-4C61-97F5-51A7005F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C07C-18A7-4680-B1BF-A309FD0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0A90-0ABE-4806-AE77-90A27E19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99F1-7FF0-4D1F-94F1-E4F24221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8950-8B37-414A-835E-44CAA8C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D05-0D58-4D12-9CA7-E8F83E2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07FE-EB49-4DCE-B4A7-B91EF92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BCA5-AC7F-463E-8DFF-379C86F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EF38-08CC-4F1A-BE9D-03574277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9BA22-8BAB-46DD-83E4-E74E6CB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A1E9C-1655-4D4D-8820-39EE9738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1E9-E3EF-4CF5-B42D-F3513B5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1AC6-75E1-4275-B1A3-B2ACA3352A3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A192-C4A1-4C0F-B57C-D41F7DA1AE3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C5F-7E28-43D2-AB53-3CC8A862145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EFCE-E92D-4B32-993E-8EC518BB44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ED15-E370-461F-9C5A-79F2FC2001D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12A-AC86-4928-BD20-20DB0C30F6E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390-FB7E-4979-8305-A27425E9F05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96F8-EA81-4E03-999D-46B1E458B8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18F-A840-45EA-AECC-B98E9EA9BA9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A65F-E913-4DAF-B4F7-BB5EE18F7FF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EBC4-890B-409B-9693-EA1E49C3CBF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16D-F1CD-4B38-B31A-406A96BCEE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14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10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18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5C62-4776-47FA-BAF0-9D42E1EB808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D4A1-4E6C-4A48-854A-334CE16ABA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pi.echo.nasa.gov/echo-esip/search/dataset.atom?keywords=MODI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porting GES-DISC feature requests and beyon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919080" y="4343400"/>
            <a:ext cx="74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CHO-ESIP query interf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8" descr="echo"/>
          <p:cNvPicPr/>
          <p:nvPr/>
        </p:nvPicPr>
        <p:blipFill>
          <a:blip r:embed="rId1"/>
          <a:stretch/>
        </p:blipFill>
        <p:spPr>
          <a:xfrm>
            <a:off x="4952880" y="152280"/>
            <a:ext cx="4089600" cy="127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asaHeaderLogo"/>
          <p:cNvPicPr/>
          <p:nvPr/>
        </p:nvPicPr>
        <p:blipFill>
          <a:blip r:embed="rId2"/>
          <a:stretch/>
        </p:blipFill>
        <p:spPr>
          <a:xfrm>
            <a:off x="457200" y="5943600"/>
            <a:ext cx="38116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it was successfu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 communication with custom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lid plat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agile develop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 use of proven off-the-shelf softw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tr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erson days (atom) : 11.2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erson days (html) : 6.7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SLO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urce : 224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st : 247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s it easier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5" descr="ThatWasEasy"/>
          <p:cNvPicPr/>
          <p:nvPr/>
        </p:nvPicPr>
        <p:blipFill>
          <a:blip r:embed="rId1"/>
          <a:stretch/>
        </p:blipFill>
        <p:spPr>
          <a:xfrm>
            <a:off x="1219320" y="1371600"/>
            <a:ext cx="69008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Next Step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tter keyword sear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tal number of resul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is experience in any new client work ECHO undertak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ing in 201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4" name="Picture 11" descr="echoReverb"/>
          <p:cNvPicPr/>
          <p:nvPr/>
        </p:nvPicPr>
        <p:blipFill>
          <a:blip r:embed="rId1"/>
          <a:stretch/>
        </p:blipFill>
        <p:spPr>
          <a:xfrm>
            <a:off x="2730600" y="3048120"/>
            <a:ext cx="3682800" cy="7617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4"/>
          <p:cNvSpPr/>
          <p:nvPr/>
        </p:nvSpPr>
        <p:spPr>
          <a:xfrm>
            <a:off x="502560" y="4800600"/>
            <a:ext cx="83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view available in ECHO partner test – late August 201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3276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original requ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ris Lynnes to ECHO at AGU ‘09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‘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would use ECHO if it were faster and simpler’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imple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query interf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pen Sear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om feed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SIP standard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5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ederation Of Earth Science Information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1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HTTP GET requests with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set re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dataset.atom?keywords=MODIS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anule re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granule.atom?shortName=MOD02QKM&amp;versionId=5&amp;dataCenter=LAADS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http://api.echo.nasa.gov/echo-esip/search/dataset.atom?keywords=MODIS&amp;numberOfResults=10&amp;cursor=20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k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2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set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eywo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umber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r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anule query paramet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mpor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ti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umber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r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nterface (3 of 3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tom feed resul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nput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Courier New"/>
                <a:hlinkClick r:id="rId1"/>
              </a:rPr>
              <a:t>http://api.echo.nasa.gov/echo-esip/search/dataset.atom?keywords=MODI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feed xmlns="http://www.w3.org/2005/Atom" xmlns:os="http://a9.com/-/spec/opensearch/1.1/"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title type="text"&gt;ECHO dataset search results&lt;/titl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os:itemsPerPage&gt;10&lt;/os:itemsPerPag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os:startIndex&gt;1&lt;/os:startIndex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entry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title type="text"&gt;MODIS/Terra Clear Sky Radiance 8-Day Composite Daily L3 Global 25km Equal Area V005&lt;/title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link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href="http://testbed.echo.nasa.gov:80/echo-esip/search/granuleOsdd.xml?dataCenter=LAADS&amp;amp;shortName=MODCSR_8&amp;amp;versionId=5"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hreflang="en-US"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type="application/opensearchdescription+xml"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rel="search"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title="Custom ECHO Granule Open Search Descriptor Document"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link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entry&gt;</a:t>
            </a: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&lt;/feed&gt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implem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ring MV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ring Web Serv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CHO Authentication and Catalog web serv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ote that only the public echo web services api was u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ent side keyword index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pache Abde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oing beyo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ing an html vie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ut to demo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eedbac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S-DISC is very hap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CHO-ESIP is perceived to be faster than current clien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CHO-ESIP is now being used by Mirad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bstantial interest in the user commun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to WI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prov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ging of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aster access to query 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mpler access to online dat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mple keyword sear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CHO-ESIP does not prov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ser manage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der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dvanced query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54:21Z</dcterms:created>
  <dc:creator>Michael Pilone</dc:creator>
  <dc:description/>
  <dc:language>en-US</dc:language>
  <cp:lastModifiedBy>Christopher Lynnes</cp:lastModifiedBy>
  <dcterms:modified xsi:type="dcterms:W3CDTF">2010-07-26T17:24:37Z</dcterms:modified>
  <cp:revision>71</cp:revision>
  <dc:subject/>
  <dc:title>ECHO Metadata Form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049B0F9DB0A94BA7BAB38E69575FCF</vt:lpwstr>
  </property>
</Properties>
</file>